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723438" cy="71993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EF4-4008-46BF-8D3D-B870BCD7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826452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8280" y="4336560"/>
            <a:ext cx="826452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235-D415-4AC9-91B5-BFB6A0D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320" y="20793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8280" y="43365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320" y="43365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D31-6321-4ADB-A400-58F87D7D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266076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2600" y="2079360"/>
            <a:ext cx="266076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6560" y="2079360"/>
            <a:ext cx="266076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8280" y="4336560"/>
            <a:ext cx="266076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2600" y="4336560"/>
            <a:ext cx="266076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6560" y="4336560"/>
            <a:ext cx="266076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DF4-E25C-4D75-9E7D-61B293E7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8280" y="2079360"/>
            <a:ext cx="82645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2DA-9080-429A-9622-DC66B1A2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826452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834-F5AB-49E6-A696-E2A789DF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403308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320" y="2079360"/>
            <a:ext cx="403308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88D-6BCC-4392-8317-E1ED387B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152-3605-4B00-9747-3FE0F72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8280" y="639720"/>
            <a:ext cx="826452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D9B-F033-432A-9F75-428DE689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320" y="2079360"/>
            <a:ext cx="403308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8280" y="43365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57E-86B0-4993-81F1-6B0E198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403308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320" y="20793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320" y="43365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176-7E45-482B-AE03-DA7B989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8280" y="20793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320" y="2079360"/>
            <a:ext cx="403308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8280" y="4336560"/>
            <a:ext cx="8264520" cy="2061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744-BC9E-48AF-B852-C8964B4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4520" cy="1201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2079360"/>
            <a:ext cx="826452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8000"/>
          </a:bodyPr>
          <a:p>
            <a:pPr marL="357480" indent="-3574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2988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160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9320" indent="-2394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5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5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5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8280" y="6560640"/>
            <a:ext cx="20257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560640"/>
            <a:ext cx="307980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080" y="6560640"/>
            <a:ext cx="20257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C0CB-67CB-41B3-9D52-812338926DD9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146400" y="1100160"/>
            <a:ext cx="54291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Cyr"/>
              </a:rPr>
              <a:t>МСФО 1</a:t>
            </a:r>
            <a:r>
              <a:rPr b="0" lang="en-US" sz="3000" spc="-1" strike="noStrike">
                <a:solidFill>
                  <a:srgbClr val="000000"/>
                </a:solidFill>
                <a:latin typeface="Arial Cyr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 Cyr"/>
              </a:rPr>
              <a:t> «Оценка (измерение) справедливой стоимости»</a:t>
            </a: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Cyr"/>
              </a:rPr>
              <a:t>IFRS 13 “Fair Value Measurement”</a:t>
            </a: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Cyr"/>
              </a:rPr>
              <a:t>Сергей Модеров, АССА</a:t>
            </a:r>
            <a:endParaRPr b="0" lang="en-US" sz="3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8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6720" y="107964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 какого момента действует стандар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8000" y="237600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яется для  отчетных периодов, начинающихся 01 января 2013 года или поздн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срочное применение разреш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тандарта характерно следующе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ение оценочных технологий в МСФО, например, метода «наилучшего использования»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highest and best use”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МСО (Международных стандартов оценки) в соответствии с новым МСФО 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дентичные стандарты в МСФО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 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6720" y="107964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вовведения стандарта МСФО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8000" y="237600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3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е правил определения справедливой стоимости из многих стандартов в один, с указанием раскрываемой информ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аведливая стоимость, теперь, - это цена, которая была бы получена при продаже актива или уплачена при урегулировании обязательства пр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рмальной, обычной для бизнес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к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rderly transaction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участника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ы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participants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анее – независимыми друг от друга сторонами, желающими совершить такую сделку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дату оценки такой стоим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t the measurement date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о есть при сложившихся на дату оценки условиях). Используе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exit price”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то есть «выхода» из «держания» актива, «выхода» из обладания обязательство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андарте подразумевается, что при определении справедливой стоимости обязательства рассчитывается все в отношении «зеркального» актива. Имеется также ввиду, что обязательство принимается другой стороной, и она его также продолжает «быть должна», то есть не погашает это обязатель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6720" y="107964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237600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9000"/>
          </a:bodyPr>
          <a:p>
            <a:pPr marL="361080" indent="-361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ходная цена, стоимость «выхода» из обладания активом или «выхода» из ситуации несения бремени обязательства»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t price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а, которая была бы получена при продаже актива или уплачена при передаче обязатель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361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жидаемый поток денежных средств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cted cash flow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вешенное с учетом вероятности среднее значение (то есть среднее значение распределения) возможных будущих потоков денеж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361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раведливая стоимость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r value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а, которая была бы получена при продаже актива или уплачена при передаче обязательства при проведении операции на добровольной основе между участниками рынка на дату оценк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ice that would be received to sell an asset or paid t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 a liability in an orderly transaction between marke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nts at the measurement dat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0">
              <a:spcBef>
                <a:spcPts val="451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6720" y="107964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ределения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31760" y="2385720"/>
            <a:ext cx="7273800" cy="403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лучшее и наиболее эффективное использовани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est and best use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ое использование нефинансового актива участниками рынка, которое максимально увеличил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 стоимость актива или группы активов и обязательств (например, бизнеса), в которо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лся бы а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99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6720" y="107964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ерархия (последовательность) использования данных при определении справедливой сто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8000" y="237600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ход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ные 1 Уровня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1 input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ируемые цены (некорректируемые) на активных рынках на идентичные активы ил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язательства, к которым предприятие может получить доступ на дату оцен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ходные данные 2 Уровня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nput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ходные данные, не являющиеся котируемыми ценами, относящимися к 1 Уровню, которые, прямо или косвенно, являются наблюдаемыми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в отношении актива или обязатель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ходные данные 3 Уровня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nput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наблюдаемы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observab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исходные данные в отношении актива или обязатель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6720" y="107964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редность выбора рынков для поиска на них справедливой сто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8000" y="237600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ча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ой рынок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 mark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ок с самым большим объемом и уровнем деятельности в отношении актива или обязатель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99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более выгодный рынок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t advantageou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ок, позволяющий максимально увеличить сумму, которая была бы получена при продаже актива, или уменьшить сумму, которая была бы выплачена при передаче обязательства, после учета всех затрат по сделке и транспортных расхо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499"/>
              </a:spcBef>
              <a:buNone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003480" y="2671920"/>
            <a:ext cx="64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Сергей Модеров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www.ifrs.su –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применение МСФО в РФ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www.ifrs-audit.ru –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применение МСФО и международных стандартов по аудиту в РФ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8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0:02:41Z</dcterms:created>
  <dc:creator>admin</dc:creator>
  <dc:description/>
  <dc:language>en-US</dc:language>
  <cp:lastModifiedBy>smoderov</cp:lastModifiedBy>
  <dcterms:modified xsi:type="dcterms:W3CDTF">2011-10-25T18:24:07Z</dcterms:modified>
  <cp:revision>310</cp:revision>
  <dc:subject/>
  <dc:title>Презентация PowerPoint</dc:title>
</cp:coreProperties>
</file>